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DE2CB-99DD-4722-8445-724C1D8E56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2C158-5661-46C3-B977-70803073AD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4804BA-7648-4DDF-9256-F0D94801F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778B60-ADFC-40CA-807F-8394C3F6C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9BFF55-50F9-42CF-B4A3-30DED4BA1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F3E388-7C28-4953-A291-D291BEB02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3D54B-D4C4-4644-9E72-197A43B46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FE11B-5609-416F-B92E-3784C8957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04B6C-9BF1-4CED-9995-CB6924900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2496C-CD00-45B0-A750-3197BF74A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50F57-A5BA-475E-ADDF-16E322E48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FACDC-CC76-4754-BE80-7CDE66D0F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D4B60-202A-4B5E-84A3-6F431D4E8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E17A58-A85B-43ED-A606-9358881B1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F12E1-E98B-484D-9F76-EDE614995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0A398-7D42-469D-AB8B-66072D5BE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51F18-9C99-445F-8D31-AAA56BDE1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AC579-C013-41A8-8866-2F2525159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3044F-059B-41EA-BC15-9463BE9B6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593CAD-6790-48F1-99CC-18E2B61D7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6D763A-1F07-4F4B-9B26-49D5760E5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1E2443-9413-4AAD-BC35-3748F374D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A09532-FAF1-43EF-80FB-659502817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976B51-18B2-4420-9D2E-75942C031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6D8331-52AA-4ACB-8B06-14FE9DFB4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C0C70C-A561-4360-B4D3-4B584AA28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5EF15-52BB-4CC3-94FB-DFFFCA1A178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AABD5-FFD5-4664-AE43-860BE0C5EBF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U.S. Policies Affecting Food and Agricultural Marketing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alter J. Armbrust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onald D. Knuts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deral and State Marketing Orders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Economic Impacts of MOs for Fruits, Vegetables and Tree Nu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Minimum Quality Standard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Prohibit shipments of products not meeting minimum standards for grade, size and maturity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Reduce quantity available in marke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Facilitate marketing, lower transactions costs, improve marketing efficiency, allow product differentiatio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deral and State Marketing Orders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Economic Impacts of MOs for Fruits, Vegetables and Tree Nu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66"/>
                </a:solidFill>
                <a:latin typeface="Times New Roman"/>
              </a:rPr>
              <a:t>Minimum Quality Standard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May increase demand due to increased buyer certainty and repeat sale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Also apply to some imported products covered by Order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May act as non-tariff barriers to trad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deral and State Marketing Orders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Economic Impacts of MOs for Fruits, Vegetables and Tree Nu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66"/>
                </a:solidFill>
                <a:latin typeface="Times New Roman"/>
              </a:rPr>
              <a:t>Price Discriminatio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Allows allocation of shipments among primary and secondary market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With different prices and demand characteristic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Example:  US and export market for raisi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Impacts depend on demand elasticity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Revenues increased if inelastic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deral and State Marketing Orders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Economic Impacts of MOs for Fruits, Vegetables and Tree Nu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66"/>
                </a:solidFill>
                <a:latin typeface="Times New Roman"/>
              </a:rPr>
              <a:t>Reserve Pool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Withholds supply from the market is supply is “large” relative to demand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Held “in reserve” if market conditions improv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If not, sale to secondary markets, for non-food use or held as carryover stock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Provision in MOs for CA walnuts, dates, almonds, Florida citrus, but not in us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deral and State Marketing Orders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Economic Impacts of MOs for Fruits, Vegetables and Tree Nu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66"/>
                </a:solidFill>
                <a:latin typeface="Times New Roman"/>
              </a:rPr>
              <a:t>Market Flow Provision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Designed to “smooth” shipments during a marketing seaso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But not affect total volum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Not currently in us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Evidence about impacts is limited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Outcomes similar to perfectly competitive marke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deral and State Marketing Orders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Economic Impacts of MOs for Fruits, Vegetables and Tree Nu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66"/>
                </a:solidFill>
                <a:latin typeface="Times New Roman"/>
              </a:rPr>
              <a:t>Pack and Container Standardizatio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Assure buyers of shipment consistency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May reduce marketing costs through efficient product handling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Facilitate price reporting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Enhance traceability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deral and State Marketing Orders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Economic Efficiency under MOs for Fruits, Vegetables and Nu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Perfectly competitive markets efficient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By defini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MOs can be viewed as interventions to correct perceived market imperfection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MOs modify operational rules and conduct of firm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Intended outcomes: “Orderly marketing”, increased price stability, enhancement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deral and State Marketing Orders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Economic Efficiency under MOs for Fruits, Vegetables and Nu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Previous studies address combined provisions or individual one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Key criteria include trade-offs in efficiency gains and losses, other social goal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Results not definitive; depend on effects of MOs, substitution in consumption and risk aversio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deral and State Marketing Orders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Economic Efficiency under MOs for Fruits, Vegetables and Nu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New criteria required for global fruit, vegetable and tree nut supply chain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Firm conduct and consumer expectati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Criteria should include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Technical, allocative, dynamic efficiency and nonmarket benefi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Limited evidence about these impacts from previous studie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deral and State Marketing Orders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echnical Efficiency under MOs for Fruits, Vegetables and Nu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Evidence is limited and inconclusi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Orders may provide incentives for innovation in quality contro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Filson et al. (2001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Others argue that incentives are reduced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Examples:  limited use of shrink wrap for lemons, grading mechanisms for prun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deral and State Marketing Orders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Federal and State Marketing Orders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harles F. Nichols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echel S. Pagg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deral and State Marketing Orders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Allocative Efficiency under MOs for Fruits, Vegetables and Nu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Evidence is limited, extant studies illustrative, not definiti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Efficiency gains for pistachio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Gray et al., (2005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Gains from reduced volume and price swings (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Zepp and Powers,1990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More recent studies suggest no universal conclusion is possibl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deral and State Marketing Orders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Allocative Efficiency under MOs for Fruits, Vegetables and Nu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Limited evidence of impacts, but existing studies suggest that increased returns to growers reduce consumer surplu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Risk response and time frame for the analysis can imply that impacts are indeterminat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deral and State Marketing Orders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Milk Marketing Ord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Regarded as the most complex of a suite of US dairy policie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Historical context includes severe market disruptions (milk strikes) and instability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Government action codified private actions previously attempted by dairy cooperative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deral and State Marketing Orders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Milk Marketing Order Provis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Classification of milk by us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Pricing of milk by class (use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Coordination of prices across (geographic) market are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Pooling of returns to producer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Auditing to facilitate enforcement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Administrative procedures to amend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deral and State Marketing Orders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Milk Marketing Order Provis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66"/>
                </a:solidFill>
                <a:latin typeface="Times New Roman"/>
              </a:rPr>
              <a:t>Classification of Milk by Us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Components in milk (e.g., fat, protein) assigned to a “class” based on us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Federal Orders have 4 classe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California state Order has 5, but similar provisi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deral and State Marketing Orders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Milk Marketing Order Provis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66"/>
                </a:solidFill>
                <a:latin typeface="Times New Roman"/>
              </a:rPr>
              <a:t>Pricing of Milk by Clas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Orders set </a:t>
            </a:r>
            <a:r>
              <a:rPr b="0" i="1" lang="en-US" sz="3600" spc="-1" strike="noStrike">
                <a:solidFill>
                  <a:srgbClr val="ffff66"/>
                </a:solidFill>
                <a:latin typeface="Times New Roman"/>
              </a:rPr>
              <a:t>minimum</a:t>
            </a: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 prices that “first handlers” (processors) must pay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Actual prices paid are higher; “over-order” premi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Prices set based on recent product prices, adjusted for manufacturing cost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National pricing for manufactured produc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Regional pricing for fluid milk produc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deral and State Marketing Orders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Milk Marketing Order Provis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66"/>
                </a:solidFill>
                <a:latin typeface="Times New Roman"/>
              </a:rPr>
              <a:t>Pricing of Milk by Clas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Fluid milk has highest regulated pric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Only fluid milk processors are </a:t>
            </a:r>
            <a:r>
              <a:rPr b="0" i="1" lang="en-US" sz="3600" spc="-1" strike="noStrike">
                <a:solidFill>
                  <a:srgbClr val="ffff66"/>
                </a:solidFill>
                <a:latin typeface="Times New Roman"/>
              </a:rPr>
              <a:t>required</a:t>
            </a: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 to participate (pay the minimum price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But other manufacturers of dairy products find it advantageous to do s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Enhances price they can pay to dairy farmer suppli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deral and State Marketing Orders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Milk Marketing Order Provis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66"/>
                </a:solidFill>
                <a:latin typeface="Times New Roman"/>
              </a:rPr>
              <a:t>Pooling of Returns to Producer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Value of the milk marketed shared among producers supplying a marketing are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“</a:t>
            </a: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Blend Price” is the total value of milk components divided by the volume of milk marketed through the Order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Reduces variation in price received among producers in a given market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deral and State Marketing Orders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Milk Marketing Order Provis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66"/>
                </a:solidFill>
                <a:latin typeface="Times New Roman"/>
              </a:rPr>
              <a:t>Auditing to Facilitate Enforcement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Provisions allow auditing of milk use reported by handler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66"/>
                </a:solidFill>
                <a:latin typeface="Times New Roman"/>
              </a:rPr>
              <a:t>Administrative Procedures to Amend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Specifics vary, but 2/3 vote required for amendment or eliminatio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Administrative hearing required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deral and State Marketing Orders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Evolution of Milk Marketing Ord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Scope and impact changed over tim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Early, limited number of Orders and small proportion of milk covered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In 2000, about 92% of US milk regulat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Consolidation with improvements in transportation and processing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Orders reduced to 10 as of 2004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deral and State Marketing Orders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Overview of Marketing Ord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Developed in 1930s under Agricultural Marketing Agreement Act (1937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Legal instrument issued by USD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Original objectives: “orderly marketing” and establishment of parity price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Parity” concept since abandon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Other fundamental statutory provisions have remained the same since the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deral and State Marketing Orders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Evolution of Milk Marketing Ord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Impacts on average prices paid decreasing over time, due to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Larger growth of milk used in manufacturing rather than fluid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Smaller proportion of milk paying higher pric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Difference paid for fluid versus manufacturing milk smaller as proportion of pric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deral and State Marketing Orders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Economic Impacts of Milk Marketing Ord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Many studies have examined, but limited consensus, due to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Are underlying markets competitive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Interactions with other dairy policie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Assumptions about elasticities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Use of comparative static rather than dynamic framework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deral and State Marketing Orders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Economic Impacts of Milk Marketing Ord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66"/>
                </a:solidFill>
                <a:latin typeface="Times New Roman"/>
              </a:rPr>
              <a:t>If</a:t>
            </a: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 markets are competitive, Orders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Increase average prices paid producer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Increase total milk production and dairy farmer revenue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Increase price paid for fluid milk, but decrease dairy product price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Reduce social welfare (surplus measures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deral and State Marketing Orders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Economic Impacts of Milk Marketing Ord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66"/>
                </a:solidFill>
                <a:latin typeface="Times New Roman"/>
              </a:rPr>
              <a:t>Are</a:t>
            </a: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 milk markets are competitive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Determination not easy after 70+ years of regulatio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Many analysts assert but do not show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If not competitive, do dairy cooperatives have offsetting market power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Evidence is inconclusive, and some suggest cooperatives need Orders to function effectivel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deral and State Marketing Orders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echnical Efficiency Under Milk Marketing Ord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Limited study for dairy farms, processing firms, food retailer (i.e., supply chain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Impacts on industry structure not well know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Orders provide incentives for production in higher cost areas and conversion to Grade A milk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deral and State Marketing Orders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echnical Efficiency Under Milk Marketing Ord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Dynamic analysis indicates that Orders could facilitate farm growth and lower production cost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Current Order pricing broadly consistent with least-cost spatial equilibrium models of US dairy sector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deral and State Marketing Orders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Allocative Efficiency Under Milk Marketing Ord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Allocative inefficiency a key criticism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Overinvestment in milk production, for Grade A and in higher cost are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More costly milk transportation for pooling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Restrictions on reconstituted milk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Allocation of milk to highest value us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deral and State Marketing Orders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Allocative Efficiency Under Milk Marketing Orders (continued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Transfers from consumers to producer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Regional redistribution for producers based on class utilizatio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Lower prices and revenues in regions with much manufacturing mil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Consumers of fluid products negatively affected, potential benefits for households consuming manufactured product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deral and State Marketing Orders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Dynamic Efficiency Under Milk Marketing Ord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Impacts on supply chain evolution and costs not well know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Reductions in price variability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Risk management may be facilitated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Impact on forward contracting a concern before 2008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Impacts on product innovation uncertai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Orders change, but too slowly for som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deral and State Marketing Orders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Non-Market Benefits Under Milk Marketing Ord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“</a:t>
            </a: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Non-market” impacts may exist on nutrition, health, rural development, animal welfare and social justic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Not well studied; more research needed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Smaller, less favorably located farms may benefit more from Order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Redistribution a social justice issue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deral and State Marketing Orders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Overview of Marketing Ord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Commodities covered include milk and 22 fruits, vegetables, nuts and specialty crop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Economic similarities of commodities covered by marketing Orders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Degree of perishability and storabilt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Price volatility and price inequalit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Price discrimination possibiliti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deral and State Marketing Orders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olicy Options and Information Needs for Marketing Ord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Overall, evidence suggests that Orders have accomplished many of the objectives Congress intended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Attempts to change Orders must balance issue of inefficiencies and restraints on competition with unique nature of the agricultural business environment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deral and State Marketing Orders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olicy Options and Information Needs for Marketing Ord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Policy options for Orders include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399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(For the sake of completeness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Maintain current Order program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Replace Orders with other program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Modify Orders to address industry and market changes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Eliminate Orders, with/without phase-out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deral and State Marketing Orders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olicy Options and Information Needs for Marketing Ord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66"/>
                </a:solidFill>
                <a:latin typeface="Times New Roman"/>
              </a:rPr>
              <a:t>Maintain current Order programs or Eliminate Orders, with/without phase-out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Impacts can be assessed (at least to some extent) with existing research bas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Phased versus immediate elimination impacts less clear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Institutional arrangements for milk Orders would influence outcome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deral and State Marketing Orders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olicy Options and Information Needs for Marketing Ord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66"/>
                </a:solidFill>
                <a:latin typeface="Times New Roman"/>
              </a:rPr>
              <a:t>Replace Orders with Other Program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Extend current commodity programs to those covered by Order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Develop new programs with similar objectives for Order commoditie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deral and State Marketing Orders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olicy Options and Information Needs for Marketing Ord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66"/>
                </a:solidFill>
                <a:latin typeface="Times New Roman"/>
              </a:rPr>
              <a:t>Replace Orders with Other Program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Objectives of current programs differ from those of order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Any “replacement” will be an imperfect substitu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“</a:t>
            </a: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Replacement” is a misnomer for milk, given numerous other program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Neither is likely in current political and economic environment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deral and State Marketing Orders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olicy Options and Information Needs for Marketing Ord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66"/>
                </a:solidFill>
                <a:latin typeface="Times New Roman"/>
              </a:rPr>
              <a:t>Modify Orders with Industry and Market Chang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May not require major changes for fruits, vegetables and tree nut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Examples:  additional emphasis on food safety and less emphasis on volume contro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Changes to milk Orders challenging given current winners and loser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deral and State Marketing Orders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olicy Options and Information Needs for Marketing Ord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Information needs include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Basic response information (elasticities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Non-market impacts under-researched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Dynamic impacts a priority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Price discovery, risk management options, organizational and institutional chang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What potential for collaboration among industry as a replacement for Orders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deral and State Marketing Orders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Overview of Marketing Ord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Orders apply to specific commodities produced in a specific geographic are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Proposed by producer group, but USDA makes determination of need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Implemented if 2/3 of eligible producers or production vote in favor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Binding on ALL handlers once approved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deral and State Marketing Orders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Fruit, Vegetable, Nut and Specialty Crop Ord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“</a:t>
            </a: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Stabilize” market conditions through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Limits on amount marketed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Control and disposition of surplu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Quality standards and inspectio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Restrictions on packaging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Research and promotion on production, marketing, distribution or consumptio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deral and State Marketing Orders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Fruit, Vegetable, Nut and Specialty Crop Ord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In 2011, 32 federal marketing Orders for about 20 commoditie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Farm value of regulated crops about $6 billion in 2007-2009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5% of farm receipts from crop sal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Marketing Order Administration Branch of Fruit and Vegetable Program of USDA provides overall administratio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deral and State Marketing Orders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Evolution of MOs for Fruits, Vegetables and Tree Nu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Both for provisions for all Orders and individual commoditie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1940s to 1960s: greater restrictions on quality, maturity, rate of flow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1970s:  Handler assessments authorized, but growing public concern and reviews of benefits and shortcoming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deral and State Marketing Orders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Evolution of MOs for Fruits, Vegetables and Tree Nu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Individual Orders give more attention to food safety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Especially related to grades and standard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Examples:  aflatoxin in pistachios, salmonella in almond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Evolution of Orders likely to continue, especially to address food safety issue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More cooperation between USDA and FDA likel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3T03:39:48Z</dcterms:created>
  <dc:creator>Walt</dc:creator>
  <dc:description/>
  <dc:language>en-US</dc:language>
  <cp:lastModifiedBy>Walt</cp:lastModifiedBy>
  <dcterms:modified xsi:type="dcterms:W3CDTF">2012-06-03T19:48:48Z</dcterms:modified>
  <cp:revision>61</cp:revision>
  <dc:subject/>
  <dc:title>U.S. Policies Affecting Food and Agricultural Marketing</dc:title>
</cp:coreProperties>
</file>